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8AD-11A1-4E21-AC3F-09457BD1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FC3-F5CA-45F6-9ED3-E6C1898B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8C1-23A8-46EB-B42B-0572E38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63E-2019-4AA3-B0B8-C54BCB56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BA4-CC3D-4C5D-9684-1FE5715F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F3C-BCC2-46D1-AC00-3BD1172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F73-C55D-4998-9640-EA639394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1F1B-E5DC-43FB-81C6-6D2EF101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73DD-BA62-40BC-B2A0-91ACE4AD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046-026F-411F-8A3F-CAB35E8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9E1D-AA03-4CCA-89A7-2A0F10A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97E1-82A2-439B-8405-7455A34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06B2-DB9E-4B4A-8346-40D33012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08FC-0992-4183-966D-1066AB3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D038-3253-4B5E-A74C-FE81D7F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6E14-0C59-4E55-ADD5-DDEB35B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0F4D-967D-4006-8EA3-0356AF15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232-87CC-4F90-88C4-09D676CF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F6F2-EFAB-4187-A14C-94B1D74F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E9C4-C1D6-473C-94B1-1AA3ED05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2C5-C6E8-40EC-99FD-D9149642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BD54-CB60-4223-87A0-3DE76162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20FD-8E23-44D7-A9FC-FB2A92D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3EEE-0F93-4D4D-9527-50E38DB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F5B1-E938-41CB-9FC1-4B4C600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BC6C-838F-4772-AE31-FD12C789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9C8D-BEDB-41FE-9ECE-65A716C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CE50-4E7A-496F-9EBC-7EFCCA4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B1B5-B14E-4995-99BD-E3029F8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A9AB-1FA3-4B71-9943-2FA9ED6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CE78-E180-46A3-AD72-39335EAE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CE9-C2C7-4AE5-865A-0F0FB23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61FE-89E8-487C-BA22-403B4FBE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28D3-47E7-46AB-A7CB-F9304647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C3CC-D3F7-4CEC-ADDC-B6AE5A27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6C65-845A-4E73-8033-15754B61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37B1-1E3B-4F28-B559-2CA526D3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BF0F-D817-4D70-8673-DC94587B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3D0D-9B2B-4B7D-96B3-6B102FC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AE8C-DF74-4B1C-95F6-E703DA4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D3EF-41A0-436A-B816-2B0500AB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1302-8929-48F1-8E4F-715455C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A8D-F88C-4AD3-837B-07B76CD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65F2-457B-4BE9-857A-0F331916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19DE-FB9F-42A9-853A-03EAE29A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7A7F-E117-447E-88A2-4DD838BB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5E3-4783-4AB6-9E1F-7B9AA11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177-32C8-417D-A56D-E849BED6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C165FAA-87B1-4091-AD47-B80BE0442CC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703AB46-DEFD-435F-8970-24145747ADE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D6346EC-E3C0-4A28-8F44-ADA6CF6F67F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3D18921-1362-4FBD-9BBB-EDCEE809D77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najważniejsze elementy pierwszej pomocy w przypadku ataku epileptycz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mortyzowanie upadku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chrona głowy poszkodowanego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pewnienie komfortu termicznego i psychicznego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4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